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A98-34BB-4F75-A8DE-26539672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334-5CF8-4AD1-8DB6-31C1A768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7AA-235E-4126-AD31-540D4370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8CD-4BD1-4265-B3FC-BFA08E67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83C1-ACB6-41F1-AF8E-0401E0C1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770-DF3C-4808-9D2F-45C3051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5BF0-9DCD-4A96-BEE3-58CDCAE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120A-1A55-4D34-B173-1F1C57C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EA9-1D2F-4AC2-88D3-987A144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1F5F-C4AA-47F8-BA93-170758E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2F2B-31E6-496E-8F42-CEFFBC5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D1B-8A6C-46EC-B1FD-26272FBF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5EB-2F2A-4B4D-9DA4-9112980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0C5-F882-48DA-8391-6945015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CFB9-6A2B-4D4A-8866-D1ADB2BA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0FF-DC41-4B1A-8C8C-286D6BC0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B876-BC5B-417B-98DC-5126FAFC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745-0CFD-4913-9A8E-7071444F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ACA-AE2D-4C69-87FD-19E93E41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1EE-0B51-4E5B-9677-AF11ADA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4C3-C0B6-48B1-AE0B-A54F1F6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310-973D-4F99-8BF2-81EE559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A97-93A1-4A9A-A651-16DBDFD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EDE-FF6B-438B-8967-F05F977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910-C4AC-47D9-9B7E-A5472A32D0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31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299-DB34-47AB-9B31-27047344DF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22" descr=""/>
          <p:cNvPicPr/>
          <p:nvPr/>
        </p:nvPicPr>
        <p:blipFill>
          <a:blip r:embed="rId2"/>
          <a:stretch/>
        </p:blipFill>
        <p:spPr>
          <a:xfrm>
            <a:off x="0" y="-4680"/>
            <a:ext cx="918036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39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2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3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93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5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3917880" y="521172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104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3"/>
          <p:cNvSpPr/>
          <p:nvPr/>
        </p:nvSpPr>
        <p:spPr>
          <a:xfrm>
            <a:off x="401760" y="1405080"/>
            <a:ext cx="826740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 My weekend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9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17"/>
          <p:cNvSpPr/>
          <p:nvPr/>
        </p:nvSpPr>
        <p:spPr>
          <a:xfrm>
            <a:off x="3353400" y="148752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n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们打算什么时候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18"/>
          <p:cNvSpPr/>
          <p:nvPr/>
        </p:nvSpPr>
        <p:spPr>
          <a:xfrm>
            <a:off x="1397160" y="161460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9"/>
          <p:cNvSpPr/>
          <p:nvPr/>
        </p:nvSpPr>
        <p:spPr>
          <a:xfrm>
            <a:off x="1584360" y="15843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9" descr=""/>
          <p:cNvPicPr/>
          <p:nvPr/>
        </p:nvPicPr>
        <p:blipFill>
          <a:blip r:embed="rId4"/>
          <a:stretch/>
        </p:blipFill>
        <p:spPr>
          <a:xfrm>
            <a:off x="509760" y="1477800"/>
            <a:ext cx="1083960" cy="6685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1339920" y="3125880"/>
            <a:ext cx="67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特殊疑问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ing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的特殊疑问句，用来询问某人打算何时做某事，其基本句型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ing(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地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do sth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07960" y="2738520"/>
            <a:ext cx="1137960" cy="459720"/>
            <a:chOff x="1407960" y="2738520"/>
            <a:chExt cx="1137960" cy="459720"/>
          </a:xfrm>
        </p:grpSpPr>
        <p:sp>
          <p:nvSpPr>
            <p:cNvPr id="205" name="文本框 23"/>
            <p:cNvSpPr/>
            <p:nvPr/>
          </p:nvSpPr>
          <p:spPr>
            <a:xfrm>
              <a:off x="1743480" y="273852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1407960" y="2759760"/>
              <a:ext cx="3222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1397160" y="2138400"/>
            <a:ext cx="61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is he going to buy clot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打算什么时候去买衣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ing to buy clothes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打算明天去买衣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9" name="矩形 15"/>
          <p:cNvSpPr/>
          <p:nvPr/>
        </p:nvSpPr>
        <p:spPr>
          <a:xfrm>
            <a:off x="7121520" y="1154160"/>
            <a:ext cx="188424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26"/>
          <p:cNvSpPr/>
          <p:nvPr/>
        </p:nvSpPr>
        <p:spPr>
          <a:xfrm>
            <a:off x="75445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22280" y="2049480"/>
          <a:ext cx="7024680" cy="4024440"/>
        </p:xfrm>
        <a:graphic>
          <a:graphicData uri="http://schemas.openxmlformats.org/drawingml/2006/table">
            <a:tbl>
              <a:tblPr/>
              <a:tblGrid>
                <a:gridCol w="1728720"/>
                <a:gridCol w="5295960"/>
              </a:tblGrid>
              <a:tr h="1006200"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询问活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at are you going to do tonight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今晚你打算做什么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询问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n are you going to swim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打算什么时候去游泳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询问地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re are you going to pla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们打算去哪儿玩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询问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w are they going to Beij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们打算怎样去北京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2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TextBox 8"/>
          <p:cNvSpPr/>
          <p:nvPr/>
        </p:nvSpPr>
        <p:spPr>
          <a:xfrm>
            <a:off x="2154240" y="1357200"/>
            <a:ext cx="429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含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ing t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结构的特殊疑问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3"/>
          <p:cNvSpPr/>
          <p:nvPr/>
        </p:nvSpPr>
        <p:spPr>
          <a:xfrm>
            <a:off x="1311840" y="1436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24" descr="花盆.png"/>
          <p:cNvPicPr/>
          <p:nvPr/>
        </p:nvPicPr>
        <p:blipFill>
          <a:blip r:embed="rId4"/>
          <a:stretch/>
        </p:blipFill>
        <p:spPr>
          <a:xfrm>
            <a:off x="1044720" y="145404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17"/>
          <p:cNvSpPr/>
          <p:nvPr/>
        </p:nvSpPr>
        <p:spPr>
          <a:xfrm>
            <a:off x="3497760" y="1647720"/>
            <a:ext cx="34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y not go on Tues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不在星期二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18"/>
          <p:cNvSpPr/>
          <p:nvPr/>
        </p:nvSpPr>
        <p:spPr>
          <a:xfrm>
            <a:off x="1598760" y="17733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"/>
          <p:cNvSpPr/>
          <p:nvPr/>
        </p:nvSpPr>
        <p:spPr>
          <a:xfrm>
            <a:off x="1924200" y="17431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9" descr=""/>
          <p:cNvPicPr/>
          <p:nvPr/>
        </p:nvPicPr>
        <p:blipFill>
          <a:blip r:embed="rId4"/>
          <a:stretch/>
        </p:blipFill>
        <p:spPr>
          <a:xfrm>
            <a:off x="865080" y="16336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8"/>
          <p:cNvSpPr/>
          <p:nvPr/>
        </p:nvSpPr>
        <p:spPr>
          <a:xfrm>
            <a:off x="1969920" y="2881440"/>
            <a:ext cx="592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no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？句型：意为“为什么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呢？”用来询问原因或用反问的语气提出建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not go there by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不乘公共汽车去那儿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01800" y="3086280"/>
            <a:ext cx="920880" cy="459720"/>
            <a:chOff x="901800" y="3086280"/>
            <a:chExt cx="920880" cy="459720"/>
          </a:xfrm>
        </p:grpSpPr>
        <p:sp>
          <p:nvSpPr>
            <p:cNvPr id="239" name="文本框 23"/>
            <p:cNvSpPr/>
            <p:nvPr/>
          </p:nvSpPr>
          <p:spPr>
            <a:xfrm>
              <a:off x="1276200" y="308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901800" y="3128400"/>
              <a:ext cx="3222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4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0"/>
          <p:cNvSpPr/>
          <p:nvPr/>
        </p:nvSpPr>
        <p:spPr>
          <a:xfrm>
            <a:off x="1928880" y="179532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句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don’t 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not play foo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don’t you play foo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不踢足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8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0320" y="1922400"/>
            <a:ext cx="921240" cy="642600"/>
            <a:chOff x="760320" y="1922400"/>
            <a:chExt cx="921240" cy="642600"/>
          </a:xfrm>
        </p:grpSpPr>
        <p:pic>
          <p:nvPicPr>
            <p:cNvPr id="252" name="图片 18" descr=""/>
            <p:cNvPicPr/>
            <p:nvPr/>
          </p:nvPicPr>
          <p:blipFill>
            <a:blip r:embed="rId4"/>
            <a:stretch/>
          </p:blipFill>
          <p:spPr>
            <a:xfrm>
              <a:off x="760320" y="2074680"/>
              <a:ext cx="3232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矩形 16"/>
            <p:cNvSpPr/>
            <p:nvPr/>
          </p:nvSpPr>
          <p:spPr>
            <a:xfrm>
              <a:off x="1135080" y="192240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5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TextBox 8"/>
          <p:cNvSpPr/>
          <p:nvPr/>
        </p:nvSpPr>
        <p:spPr>
          <a:xfrm>
            <a:off x="882720" y="5583240"/>
            <a:ext cx="7731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成表格之后，每组派二个代表，介绍组员的活动安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>
            <a:off x="1236600" y="1198440"/>
            <a:ext cx="687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下面的表格。调查自己小组成员今天下午的活动安排，以及时间、地点，做一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eport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1197000" y="2281320"/>
          <a:ext cx="7365960" cy="3216240"/>
        </p:xfrm>
        <a:graphic>
          <a:graphicData uri="http://schemas.openxmlformats.org/drawingml/2006/table">
            <a:tbl>
              <a:tblPr/>
              <a:tblGrid>
                <a:gridCol w="976320"/>
                <a:gridCol w="2138400"/>
                <a:gridCol w="2171520"/>
                <a:gridCol w="2079720"/>
              </a:tblGrid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re are you going this afterno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at are you going to do the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en are you go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6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685800" y="15192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汉语提示完成下列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我们回家的路上，我们买了一些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buy some fruit _______ _______ _______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家的路上，她看见一只可爱的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 _______ _______ __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sees a cute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3817800" y="323388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         our        way      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1325520" y="4695840"/>
            <a:ext cx="43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      Amy’s       way     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922320" y="1519200"/>
            <a:ext cx="56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选择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 ________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going 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When         C.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2143080" y="2533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1212840" y="4600440"/>
            <a:ext cx="685008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2039760" y="4600440"/>
            <a:ext cx="5643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根据答句的关键词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ijing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询问的是地方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8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7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"/>
          <p:cNvSpPr/>
          <p:nvPr/>
        </p:nvSpPr>
        <p:spPr>
          <a:xfrm>
            <a:off x="803160" y="1969920"/>
            <a:ext cx="798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Nancy and her daughter ________ shopping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g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is going       C. will go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are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4797360" y="2247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212840" y="3924360"/>
            <a:ext cx="714708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6"/>
          <p:cNvSpPr/>
          <p:nvPr/>
        </p:nvSpPr>
        <p:spPr>
          <a:xfrm>
            <a:off x="2039760" y="3924360"/>
            <a:ext cx="6320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排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il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接动词原形可排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由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Nancy and her daughte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为复数可排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9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8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803160" y="154296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When are you going to take a tr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By bus        B. To the cinema        C. Next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898640" y="2549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095480" y="3924360"/>
            <a:ext cx="769608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6"/>
          <p:cNvSpPr/>
          <p:nvPr/>
        </p:nvSpPr>
        <p:spPr>
          <a:xfrm>
            <a:off x="1922400" y="3924360"/>
            <a:ext cx="6629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y bu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交通方式，常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来提问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o the cinem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地点，常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er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来提问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next Wednesda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时间，常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e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来提问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文本框 2"/>
          <p:cNvSpPr/>
          <p:nvPr/>
        </p:nvSpPr>
        <p:spPr>
          <a:xfrm>
            <a:off x="-1897200" y="192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C:\Users\Administrator\Desktop\小学点拨课件副本.gif"/>
          <p:cNvPicPr/>
          <p:nvPr/>
        </p:nvPicPr>
        <p:blipFill>
          <a:blip r:embed="rId3"/>
          <a:stretch/>
        </p:blipFill>
        <p:spPr>
          <a:xfrm>
            <a:off x="3254400" y="328680"/>
            <a:ext cx="2724120" cy="71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"/>
          <p:cNvPicPr/>
          <p:nvPr/>
        </p:nvPicPr>
        <p:blipFill>
          <a:blip r:embed="rId5"/>
          <a:stretch/>
        </p:blipFill>
        <p:spPr>
          <a:xfrm>
            <a:off x="1290600" y="1557360"/>
            <a:ext cx="676440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1147680" y="1352520"/>
            <a:ext cx="564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用适当的疑问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 ________are we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________are you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going to draw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________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eight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—________are you going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"/>
          <p:cNvSpPr/>
          <p:nvPr/>
        </p:nvSpPr>
        <p:spPr>
          <a:xfrm>
            <a:off x="1987560" y="20383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1967040" y="31179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1967040" y="4211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2136600" y="5321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1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3"/>
          <p:cNvSpPr/>
          <p:nvPr/>
        </p:nvSpPr>
        <p:spPr>
          <a:xfrm>
            <a:off x="1009800" y="1224000"/>
            <a:ext cx="7130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033560" y="2655720"/>
            <a:ext cx="6043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’re going to the cin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not go on Tues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含有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 going t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构的特殊疑问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2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8" name="矩形 23"/>
          <p:cNvSpPr/>
          <p:nvPr/>
        </p:nvSpPr>
        <p:spPr>
          <a:xfrm>
            <a:off x="830160" y="1674720"/>
            <a:ext cx="44460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4"/>
          <p:cNvSpPr/>
          <p:nvPr/>
        </p:nvSpPr>
        <p:spPr>
          <a:xfrm>
            <a:off x="828720" y="3208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5"/>
          <p:cNvSpPr/>
          <p:nvPr/>
        </p:nvSpPr>
        <p:spPr>
          <a:xfrm>
            <a:off x="857160" y="4013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905040" y="1440000"/>
            <a:ext cx="7769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四会句型、短语和单词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l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话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C:\Users\Administrator\Desktop\枫叶副本.gif"/>
          <p:cNvPicPr/>
          <p:nvPr/>
        </p:nvPicPr>
        <p:blipFill>
          <a:blip r:embed="rId1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343080" y="53989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336" name="矩形 1"/>
          <p:cNvSpPr/>
          <p:nvPr/>
        </p:nvSpPr>
        <p:spPr>
          <a:xfrm>
            <a:off x="1284120" y="1839960"/>
            <a:ext cx="705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y. where are you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’m going to buy some fru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ice. I’m going to buy some ice cre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o you like ice cr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. It’s for my cousin, J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4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43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19"/>
          <p:cNvSpPr/>
          <p:nvPr/>
        </p:nvSpPr>
        <p:spPr>
          <a:xfrm>
            <a:off x="0" y="0"/>
            <a:ext cx="919152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91520" cy="2011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3808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My weekend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356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358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5" descr=""/>
          <p:cNvPicPr/>
          <p:nvPr/>
        </p:nvPicPr>
        <p:blipFill>
          <a:blip r:embed="rId10"/>
          <a:stretch/>
        </p:blipFill>
        <p:spPr>
          <a:xfrm>
            <a:off x="2957400" y="3713040"/>
            <a:ext cx="4149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9"/>
          <p:cNvSpPr/>
          <p:nvPr/>
        </p:nvSpPr>
        <p:spPr>
          <a:xfrm>
            <a:off x="0" y="12600"/>
            <a:ext cx="919152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91520" cy="2011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371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372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375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8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TextBox 2"/>
          <p:cNvSpPr/>
          <p:nvPr/>
        </p:nvSpPr>
        <p:spPr>
          <a:xfrm>
            <a:off x="900000" y="1461960"/>
            <a:ext cx="739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对话内容填上正确的疑问词将句子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__________ are you going tomo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mus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__________ are you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 a fil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__________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mo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—__________don’t you go to school on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my home is f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1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6" descr=""/>
          <p:cNvPicPr/>
          <p:nvPr/>
        </p:nvPicPr>
        <p:blipFill>
          <a:blip r:embed="rId3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909800" y="2146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957320" y="32338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1963800" y="43448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2011320" y="53737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9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6" descr=""/>
          <p:cNvPicPr/>
          <p:nvPr/>
        </p:nvPicPr>
        <p:blipFill>
          <a:blip r:embed="rId3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"/>
          <p:cNvSpPr/>
          <p:nvPr/>
        </p:nvSpPr>
        <p:spPr>
          <a:xfrm>
            <a:off x="469800" y="1506600"/>
            <a:ext cx="8712360" cy="48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为下列对话选择相对应的图片，将其序号填入题前括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                  B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　　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—What is Wu Yifan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ing to the p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—How is John going to take a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ing to take a trip by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798480" y="3646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798480" y="5111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8" descr=""/>
          <p:cNvPicPr/>
          <p:nvPr/>
        </p:nvPicPr>
        <p:blipFill>
          <a:blip r:embed="rId5"/>
          <a:stretch/>
        </p:blipFill>
        <p:spPr>
          <a:xfrm>
            <a:off x="900000" y="2295360"/>
            <a:ext cx="1224000" cy="1155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9" descr=""/>
          <p:cNvPicPr/>
          <p:nvPr/>
        </p:nvPicPr>
        <p:blipFill>
          <a:blip r:embed="rId6"/>
          <a:stretch/>
        </p:blipFill>
        <p:spPr>
          <a:xfrm>
            <a:off x="2843280" y="2424240"/>
            <a:ext cx="1100160" cy="1110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"/>
          <p:cNvPicPr/>
          <p:nvPr/>
        </p:nvPicPr>
        <p:blipFill>
          <a:blip r:embed="rId7"/>
          <a:stretch/>
        </p:blipFill>
        <p:spPr>
          <a:xfrm>
            <a:off x="4853160" y="2433600"/>
            <a:ext cx="1228680" cy="1098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1" descr=""/>
          <p:cNvPicPr/>
          <p:nvPr/>
        </p:nvPicPr>
        <p:blipFill>
          <a:blip r:embed="rId8"/>
          <a:stretch/>
        </p:blipFill>
        <p:spPr>
          <a:xfrm>
            <a:off x="6858000" y="2577960"/>
            <a:ext cx="152892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0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6" descr=""/>
          <p:cNvPicPr/>
          <p:nvPr/>
        </p:nvPicPr>
        <p:blipFill>
          <a:blip r:embed="rId3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1"/>
          <p:cNvSpPr/>
          <p:nvPr/>
        </p:nvSpPr>
        <p:spPr>
          <a:xfrm>
            <a:off x="1332000" y="1781280"/>
            <a:ext cx="61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—What is Mike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ing to buy some 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—What is Oliver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ing to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1674720" y="221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1666800" y="4029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121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122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125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6" descr=""/>
          <p:cNvPicPr/>
          <p:nvPr/>
        </p:nvPicPr>
        <p:blipFill>
          <a:blip r:embed="rId1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2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"/>
          <p:cNvSpPr/>
          <p:nvPr/>
        </p:nvSpPr>
        <p:spPr>
          <a:xfrm>
            <a:off x="826920" y="1319040"/>
            <a:ext cx="7177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按要求完成下列各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Jack is going to visit me next week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为否定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ack ________ ________ to visit me next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We are going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the cin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画线部分提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________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1811160" y="338472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n’t        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1290600" y="527688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       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6" descr=""/>
          <p:cNvPicPr/>
          <p:nvPr/>
        </p:nvPicPr>
        <p:blipFill>
          <a:blip r:embed="rId1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3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"/>
          <p:cNvSpPr/>
          <p:nvPr/>
        </p:nvSpPr>
        <p:spPr>
          <a:xfrm>
            <a:off x="826920" y="1528920"/>
            <a:ext cx="81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’m going to see a film next Wednesday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画线部分提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________ you going to see a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 have lots of comic books about space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翻译成汉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is, John, going, Where, afternoon, thi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词成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1212840" y="242100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       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1116000" y="39225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有许多关于太空的连环画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2"/>
          <p:cNvSpPr/>
          <p:nvPr/>
        </p:nvSpPr>
        <p:spPr>
          <a:xfrm>
            <a:off x="1258920" y="4437000"/>
            <a:ext cx="695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7"/>
          <p:cNvSpPr/>
          <p:nvPr/>
        </p:nvSpPr>
        <p:spPr>
          <a:xfrm>
            <a:off x="1266840" y="5805360"/>
            <a:ext cx="695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971640" y="527040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is John going this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图片 6" descr=""/>
          <p:cNvPicPr/>
          <p:nvPr/>
        </p:nvPicPr>
        <p:blipFill>
          <a:blip r:embed="rId1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4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1"/>
          <p:cNvSpPr/>
          <p:nvPr/>
        </p:nvSpPr>
        <p:spPr>
          <a:xfrm>
            <a:off x="684360" y="1268280"/>
            <a:ext cx="693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情景交际。从方框中选出正确的答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Where are they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When is Amy going to the z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Is the picture for your m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What is Robin go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Why not go on Saturday? It’s half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995400" y="2948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982800" y="183204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012680" y="23716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"/>
          <p:cNvSpPr/>
          <p:nvPr/>
        </p:nvSpPr>
        <p:spPr>
          <a:xfrm>
            <a:off x="1008000" y="3471840"/>
            <a:ext cx="3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"/>
          <p:cNvSpPr/>
          <p:nvPr/>
        </p:nvSpPr>
        <p:spPr>
          <a:xfrm>
            <a:off x="1006560" y="4027320"/>
            <a:ext cx="3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826920" y="4676760"/>
            <a:ext cx="7655040" cy="16297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e’s going to the supermarket.      B. Goo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y are going to the library.         D. Yes, it is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4"/>
          <p:cNvSpPr/>
          <p:nvPr/>
        </p:nvSpPr>
        <p:spPr>
          <a:xfrm>
            <a:off x="0" y="0"/>
            <a:ext cx="919332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93320" cy="2011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45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460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1"/>
          <p:cNvSpPr/>
          <p:nvPr/>
        </p:nvSpPr>
        <p:spPr>
          <a:xfrm>
            <a:off x="7283520" y="2265480"/>
            <a:ext cx="1836720" cy="165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7365960" y="2338560"/>
            <a:ext cx="1677960" cy="15080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3"/>
          <p:cNvSpPr/>
          <p:nvPr/>
        </p:nvSpPr>
        <p:spPr>
          <a:xfrm>
            <a:off x="584280" y="1433520"/>
            <a:ext cx="66992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cousin Jack is going to visit me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’s nice. Where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re going to the cinema. We’re going to see a film about space trav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 ! I have lots of comic books about space. When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dne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y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go on Tuesday? It’s half price th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ly? 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"/>
          <p:cNvPicPr/>
          <p:nvPr/>
        </p:nvPicPr>
        <p:blipFill>
          <a:blip r:embed="rId4"/>
          <a:stretch/>
        </p:blipFill>
        <p:spPr>
          <a:xfrm>
            <a:off x="1082520" y="1314360"/>
            <a:ext cx="7107480" cy="414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7"/>
          <p:cNvSpPr/>
          <p:nvPr/>
        </p:nvSpPr>
        <p:spPr>
          <a:xfrm>
            <a:off x="3251520" y="1544760"/>
            <a:ext cx="31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re are you go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们打算去哪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18"/>
          <p:cNvSpPr/>
          <p:nvPr/>
        </p:nvSpPr>
        <p:spPr>
          <a:xfrm>
            <a:off x="1290600" y="16556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9"/>
          <p:cNvSpPr/>
          <p:nvPr/>
        </p:nvSpPr>
        <p:spPr>
          <a:xfrm>
            <a:off x="1595520" y="16365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9" descr=""/>
          <p:cNvPicPr/>
          <p:nvPr/>
        </p:nvPicPr>
        <p:blipFill>
          <a:blip r:embed="rId4"/>
          <a:stretch/>
        </p:blipFill>
        <p:spPr>
          <a:xfrm>
            <a:off x="519120" y="153036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1587600" y="2646360"/>
            <a:ext cx="686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来询问某人打算或计划去哪儿，其基本句型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ing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将来时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are your parents going tomo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父母明天打算去哪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is she going on Su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星期天她打算去哪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79600" y="2736720"/>
            <a:ext cx="947520" cy="459720"/>
            <a:chOff x="579600" y="2736720"/>
            <a:chExt cx="947520" cy="459720"/>
          </a:xfrm>
        </p:grpSpPr>
        <p:sp>
          <p:nvSpPr>
            <p:cNvPr id="155" name="文本框 23"/>
            <p:cNvSpPr/>
            <p:nvPr/>
          </p:nvSpPr>
          <p:spPr>
            <a:xfrm>
              <a:off x="980640" y="2736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579600" y="2784240"/>
              <a:ext cx="3222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6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4" descr="泡泡1.png"/>
          <p:cNvPicPr/>
          <p:nvPr/>
        </p:nvPicPr>
        <p:blipFill>
          <a:blip r:embed="rId4"/>
          <a:stretch/>
        </p:blipFill>
        <p:spPr>
          <a:xfrm>
            <a:off x="571680" y="1728720"/>
            <a:ext cx="1917360" cy="14860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8"/>
          <p:cNvSpPr/>
          <p:nvPr/>
        </p:nvSpPr>
        <p:spPr>
          <a:xfrm>
            <a:off x="1132560" y="192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易错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158920" y="3133800"/>
            <a:ext cx="595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wher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疑问副词，故句子中省略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 going t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结构中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7"/>
          <p:cNvSpPr/>
          <p:nvPr/>
        </p:nvSpPr>
        <p:spPr>
          <a:xfrm>
            <a:off x="2987640" y="1589040"/>
            <a:ext cx="37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’re going to the cin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打算去电影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18"/>
          <p:cNvSpPr/>
          <p:nvPr/>
        </p:nvSpPr>
        <p:spPr>
          <a:xfrm>
            <a:off x="1141560" y="18795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9"/>
          <p:cNvSpPr/>
          <p:nvPr/>
        </p:nvSpPr>
        <p:spPr>
          <a:xfrm>
            <a:off x="1414440" y="18381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9" descr=""/>
          <p:cNvPicPr/>
          <p:nvPr/>
        </p:nvPicPr>
        <p:blipFill>
          <a:blip r:embed="rId4"/>
          <a:stretch/>
        </p:blipFill>
        <p:spPr>
          <a:xfrm>
            <a:off x="360360" y="173196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2241720" y="3235320"/>
            <a:ext cx="623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现在进行时的特殊用法，即用现在进行时表示将来，可以这样使用的动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com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leav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8529480" y="22510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03320" y="3460680"/>
            <a:ext cx="966960" cy="459720"/>
            <a:chOff x="1003320" y="3460680"/>
            <a:chExt cx="966960" cy="459720"/>
          </a:xfrm>
        </p:grpSpPr>
        <p:sp>
          <p:nvSpPr>
            <p:cNvPr id="183" name="文本框 23"/>
            <p:cNvSpPr/>
            <p:nvPr/>
          </p:nvSpPr>
          <p:spPr>
            <a:xfrm>
              <a:off x="1423800" y="3460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图片 28" descr=""/>
            <p:cNvPicPr/>
            <p:nvPr/>
          </p:nvPicPr>
          <p:blipFill>
            <a:blip r:embed="rId5"/>
            <a:stretch/>
          </p:blipFill>
          <p:spPr>
            <a:xfrm>
              <a:off x="1003320" y="3520800"/>
              <a:ext cx="322200" cy="37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8"/>
          <p:cNvSpPr/>
          <p:nvPr/>
        </p:nvSpPr>
        <p:spPr>
          <a:xfrm>
            <a:off x="1414440" y="1503360"/>
            <a:ext cx="667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are going to the park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下午他们打算去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bus is co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汽车就要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leaving for Beijing next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周我将去北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8529480" y="22510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28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